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560-68CA-4313-85E8-834DFD89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63D-839E-4F6F-9598-0EE7E33E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4F4-8594-4937-8269-4DBC3F67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810-237D-4029-945D-BD43D061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8CA8-58D2-4FF5-8F48-F1B38BD1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3850-C249-419A-8E5E-8F2726F5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C64D-1C4C-44B7-ACF3-035D2CEB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E898-F09C-4AF9-A0BF-41458507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BC79-5FDE-4F30-9311-DBE4150B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5B64-EB64-4535-87FE-D96F168B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D050-D756-456E-8D9B-EF0D8D44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6A7-199A-4D68-BFB6-57578313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51A9-660F-4E98-BD10-150E2A87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C5A1-C47B-4797-AB67-299819A5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78A7-4DCF-4B0E-A190-27CC7C3C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9E2C-49E5-48CD-89A4-AEF5F2E6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818A-1D21-4002-91C4-DD4988D6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42D-7331-49AD-BFC5-2133751B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3C9-E94F-4C5E-A6A1-3E16A1E7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389-F84B-4FEF-BD3C-9445B34B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DA2-11E1-4DC9-8EAE-EE6E12B8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25E-A005-4284-A319-93CEF664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326-5734-41EB-92A6-A87EB0B7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6BE-0B4D-4694-B85D-A92BE870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ED2F-3980-40A5-BF32-7F1A3EFC36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45F2-99EB-463E-B86B-8695B481B1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sr-BA" sz="3200" spc="-1" strike="noStrike">
                <a:solidFill>
                  <a:srgbClr val="333399"/>
                </a:solidFill>
                <a:latin typeface="Tahoma"/>
              </a:rPr>
              <a:t>Мониторинг поступака јавних набавки - уочени проблеми  и препоруке за њихово отклањањ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98240" y="3819600"/>
            <a:ext cx="7340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BA" sz="2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sr-BA" sz="2400" spc="-1" strike="noStrike">
                <a:solidFill>
                  <a:srgbClr val="000000"/>
                </a:solidFill>
                <a:latin typeface="Tahoma"/>
              </a:rPr>
              <a:t>Драгана Рибић,</a:t>
            </a:r>
            <a:r>
              <a:rPr b="1" lang="sr-Latn-B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BA" sz="2400" spc="-1" strike="noStrike">
                <a:solidFill>
                  <a:srgbClr val="000000"/>
                </a:solidFill>
                <a:latin typeface="Tahoma"/>
              </a:rPr>
              <a:t>дипл.правник </a:t>
            </a:r>
            <a:r>
              <a:rPr b="1" lang="hr-BA" sz="24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1" lang="sr-BA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Анализа одлука Канцеларије за разматрање жалби као извор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оништење поступка јавне набавке на основу разлога који нису предвиђени чланом 12.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настављање поступка набавке са мање од три понуде без доказа оправданости истог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рихватање понуде која не садрже све тражене количинске ставке из тендерске документациј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слови учешћа високо постављени и несразмјерни са предметом набавке - супротно члану 22.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рихватање понуде која не испуњава све услове из члана 23.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захтјева се достављање копије уговора за чл. 26. став 2. тачка а), умјесто листе главних испору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Анализа одлука Канцеларије за разматрање жалби као извор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Код критеријума економски најповољнија понуда подкритеријуми: рок плаћања, рок испоруке, гарантни рок нису разрађен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Одлука о избору најповољнијег понуђача не садржи разлоге избора најповољније понуд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ни орган није провео поступак провјере понуде која је оцјењена као неприродно ниска – супротно члану 36.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огрешно тумачење члана 14. Упутства – уговорни орган дозвољава претварање непотпуне понуде у потпуну на начин да тражи накнадну доставу докумен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Извјештаји институција које врше ревизију у Босни и Херцеговини као извор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 закључен на већу вриједност него што је вриједност изабране понуде; додатни и накнадни радови прелазе 50% главног уговора; изабрани понуђач није доставио банкарску гаранцију за добро извршење посла иако је тражена; уговор закључен прије истека рока од 15 дана; провођење преговарачког поступка из разлога хитности иако нису испуњени услови; у конкретском поступку нија изабрана понуда са најнижом цијеном; прекорачен услов код директног споразума од 10%; у тендерској документацији се наводи детаљан опис карактеристика аутомобила; уговорни органи не достављају извјештаје Агенцији и не објављују Обавјештења о додјели уговора у Службеном гласнику БиХ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Мониторинг дописа које уговорни органи и понуђачи упућују Агенциј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Критеријуми за квалификацију кориштени за вредновање понуд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тражење непримјерено високе  накнаде за тендерску документациј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краћи рокови за пријем понуда од законом утврђени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фаворизовање одређених понуђача кроз детаљне  описе у техничким спецификацијам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Уочени напредак остварен кроз активности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ни органи више не наводе да “задржавају право да пониште поступак и да при том не сносе никакву одговорност према понуђачима нити су у обавези да објасне разлоге такве одлуке”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смањено је позивање на “робне марке, патенте, типове или одређено поријекло”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ни органи за члан 23. став 1. тачка ц) и д) више не захтјевају увјерења за одговорно лице у правном лицу што је раније био чест случај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ни органи смањују цијену тендерске документациј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значајно је мањи број мјешања услова учешћа и критеријума за оцјену понуд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Реакција уговорних органа на провођење мониторинга су врло позитивне што се види из повратних дописа у којима често захваљују на указаним грешкама уз напомену да се наведено неће понавља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остварује се сврха мониторинга да поред корективног има и едукативни каракте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сви резултати мониторинга са препорукама за отклањање уочених грешака постављени су н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страници Агенциј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циљу остварења пуне сврхе мониторинга неопходно је задржати континуитет у едукацији уговорних органа и понуђач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Уочени напредак остварен кроз активности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ahoma"/>
              </a:rPr>
              <a:t>Хвала на пажњи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Правни основ за мониторинг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складу са чланом 48. тачка е) Закона о јавним набавкама Босне и Херцеговине надлежност Агенције за јавне набавке је успостављање система за праћење уговорних органа у вези с примјеном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равилником о мониторингу поступака јавних набавки (“Службени гласник БиХ”, број 48/08, 50/10),   дефинисан је систем праћења примјене ЗЈН БиХ тако што је Агенција за јавне набавке задужена да проводи мониторинг поступака јавних набавки за све уговорне орга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Предмет и поступак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редмет  мониторинга поступака јавних набавки обухвата законитост примјене појединачних поступака јавних набавки код уговорних орга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оступак мониторинга се проводи на основу сазнања до којих Агенција долази из извора мониторинга и може се вршити у свакој фази поступка јавне набавк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критеријуми на основу којих Агенција врши избор поступка јавних набавки за мониторинг су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а) вриједност набавк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б) тежина неправилности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в) посредан значај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Предмет и поступак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Када Агенција, на основу увида у Обавјештење, извјештај као и путем комуникације са КРЖ и др., утврди да је дошло до одређених повреда Закона и подзаконских аката упућује допис  уговорном органу у којем указује на учињену неправилност и даје препоруку за отклањање исти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ни орган је дужан да по допису поступи, отклони неправилност и да о томе обавјести Агенцију најкасније у року од 7 да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случају да уговорни орган не отклони уочену повреду, информација о предметном поступању се доставља надлежној канцеларији за ревизију и уочена повреда поставља н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страници Агенциј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Извори података за мониторинг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Агенција проводи активности праћења уговорних органа користећи следеће изворе податак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обавјештења везана за јавне набавке објављена у Службеном гласнику БиХ и у дневним новинам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извјештаји о проведеном поступку јавне набавке које уговорни органи достављају Агенцији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одлуке Канцеларије за разматрање жалби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извјештаји институција  које врше ревизију у БиХ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дописи које достављају уговорни органи и понуђачи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дописи од стране других надлежних институција        ( инспекције, полиције, судови, тужилаштва и др.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извјештаји невладиних организациј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Најчешће неправилности и дате препоруке приликом провођења мониторинга Обавјештењ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Набавка се дијели на лотове на начин да се мјешају различити предмети набавке – подјела на лотове је могућа само у оквиру исте набавне категорије              ( чл.6. став 8. Закона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као подкритеријуми за вредновање понуда користе се референце, економска и финансијска подобност, техничка и професионална способност – уговорни органи требају правити разлику између селекционих критеријума ( чл. 22-27) и критеријума за додјелу уговора ( чл.34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Обавјештењу се не наводе подкритеријуми – садржај Обавјештења је прописан чл. 19. Закона и чл. 11. Упутства о примјени ЗЈ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Најчешће неправилности и дате препоруке приликом провођења мониторинга Обавјештењ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Обавјештењу се не наводи вријеме отварања понуда него само датум или се наведе “ 28 дана од дана објаве Обавјештења”-обавезно је тачно навести вријеме и датум отварања понуда ( чл.13 став 3. тачка п) Закона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ни органи захтјевају високу цијену за откуп тендерске документације – супротно члану 18. став 4.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отварање понуда се не врши непосредно након крајњег рока за пријем понуда – “непосредно “ значи пола сата или сат по истеку рока за пријем понуд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неправилно дефинисање уговора о набавци – члан 2. тачке 10.,11. и 12. Закон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Најчешће неправилности и дате препоруке приликом провођења мониторинга Обавјештењ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Обавјештењу о додјели уговора и Обавјештењу о поништењу поступка наводе се јединичне цијене; закључују се уговори на бази јединичних цијена -обавезно је навести укупну вриједност уговора            ( чл.13. став 3. тачка Закона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не наводи се период трајања уговора већ                     “регулисаће се закљученим уговором”-супротно чл.13.став 3. тачка г)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Обавјештењу о набавци није предвиђена примјена преференцијаног третмана домаћег – Одлука Савјета министара која је обавезујућ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једним обавјештењем  уговорни орган обавјештава о додјели уговора за више поступа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Мониторинг извјештаја о проведеним поступцима јавне набавк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Додјела уговора у конкуретском захтјеву на бази понуђеног попуста, а не на бази најниже цијене технички задовољавајуће понуде – чл. 46. став 3. Закона-додјела се заснива на најнижој цијен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нема количине већ је уговор додјељен на бази јединичних цијена - чл. 13. став 3. Закона – треба се навести укупна количина производа, услуга или радов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римјењен директни споразум за вриједност која одговара конкуретском захтјев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цијепање набавке – збир више конкуретских захтјева за исти предмет набавке прелази вриједност за конкуретски захтјев за достављање пону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7:54:33Z</dcterms:created>
  <dc:creator>REPUBLIKA SLOVENIJA</dc:creator>
  <dc:description/>
  <dc:language>en-US</dc:language>
  <cp:lastModifiedBy> </cp:lastModifiedBy>
  <dcterms:modified xsi:type="dcterms:W3CDTF">2011-06-22T12:17:00Z</dcterms:modified>
  <cp:revision>300</cp:revision>
  <dc:subject/>
  <dc:title>PowerPoint Presentation</dc:title>
</cp:coreProperties>
</file>